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70547-8A7A-434B-8F82-1DF7323EB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791E-ED7A-43DD-B352-582AA39D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F71C-AE0C-4B8D-B1BC-2BF4ABCAA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C06D-AEAA-4DAA-B0A3-D79DCC76B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0DED-0BC2-4E39-A0F3-92C4DBEC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60658-19E2-4F82-AD75-446865B66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7C10-3451-4ED9-901C-BBBDF302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A0B5-4438-4152-AB85-054CA6D4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9ED6-22BA-4063-9A50-CBB544A56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7D479-5156-49C8-96FF-92F37963E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D051-5BB9-48BB-823D-9FDEE2E5C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28F3-33A4-489A-AAE7-58A9C3353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4778D-0CB0-4238-8D3D-683B5BA11B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stero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teroids -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 small rocky objects that revolve around the sun and are too small to be pla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teroids revolve around the sun between Mars and Jupiter in the Asteroid Be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largest asteroids: Ceres, Pallas, Ves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asteroids have long elliptical orbits around su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9:08:13Z</dcterms:created>
  <dc:creator>skrial</dc:creator>
  <dc:description/>
  <dc:language>en-US</dc:language>
  <cp:lastModifiedBy>skrial</cp:lastModifiedBy>
  <dcterms:modified xsi:type="dcterms:W3CDTF">2009-11-16T19:08:29Z</dcterms:modified>
  <cp:revision>1</cp:revision>
  <dc:subject/>
  <dc:title>Slide 1</dc:title>
</cp:coreProperties>
</file>